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24C-5428-410C-9601-32E7E6B5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BC3-54FF-405C-B780-5B03C08B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34A-AD1D-4BB2-BBC5-BA66A205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7CA-77CC-4FC7-9CBA-07C9C857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D53-FFDA-42CC-9A27-D33988F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675-7E42-4881-AB75-9021B7F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C88-E7E7-4BAA-933B-8E07B7AA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F7D-1577-4A65-AEE2-D56E57EC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541-9027-4D7F-809B-37E0987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58A-9059-46FC-A105-0ECC85A7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558-741A-4DDF-8F1C-B59A1D1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4A0-4547-4790-A9D8-D9CC1BE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D05-B0A9-4166-8219-905802E4D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slide13.xml"/><Relationship Id="rId21" Type="http://schemas.openxmlformats.org/officeDocument/2006/relationships/slide" Target=""/><Relationship Id="rId22" Type="http://schemas.openxmlformats.org/officeDocument/2006/relationships/slide" Target="slide9.xml"/><Relationship Id="rId23" Type="http://schemas.openxmlformats.org/officeDocument/2006/relationships/slide" Target=""/><Relationship Id="rId24" Type="http://schemas.openxmlformats.org/officeDocument/2006/relationships/slide" Target="slide17.xml"/><Relationship Id="rId25" Type="http://schemas.openxmlformats.org/officeDocument/2006/relationships/slide" Target=""/><Relationship Id="rId26" Type="http://schemas.openxmlformats.org/officeDocument/2006/relationships/slide" Target="slide7.xm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slide20.xml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5,-1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5/13,-12/1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oint:  (1.64,7.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l Point:  (-2.33,3.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3.97,-3.35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v=&lt;6,0&gt; find llv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0492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2u -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4,6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8,-2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5486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5,1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86244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 flipV="1">
            <a:off x="3504960" y="3657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v=&lt;3,4&gt; what is llv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3u - 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3,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/5,-2√5/5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:  (-4.2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Point:  (3.7,-12.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7.9,-17.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ct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752840" cy="3070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t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3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2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3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v = &lt;-24,-7&gt; what is llv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2i-5j and v=-3i+4j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–i-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981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-3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 (-3,11) Terminal Point (9,4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2,29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3&gt; find llv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1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u=&lt;8,-3&gt; what is –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&lt;-8,3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rection of &lt;0,-3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&lt;0,-1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378936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3276720" y="236196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4&gt; what is llv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2-25T17:04:10Z</dcterms:modified>
  <cp:revision>7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